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A30-B1CB-4634-BF50-51400781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D92-B1EE-4C16-A7EA-F57C91CF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3D1-3E0E-4430-AF2D-AB4B4B16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E31-F84B-4B6A-A593-F67D6676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B79-36E5-42F9-972D-C6769591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A27-83A8-4F06-83A5-55C747AA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5FE-4D3B-4298-91C9-58A58A9C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A35-CBE0-454E-8C3E-C65ECF1D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2EF-457A-4F92-9AC0-79AA835F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F2D-D889-44F0-B335-9101EA4E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F5B-B79A-46A1-8D18-D66C50C6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79B-306C-411D-978B-9823ED2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759D-756B-4205-9ADB-9E8479B77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151760" cy="1295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349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8120" y="1676520"/>
            <a:ext cx="5410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4674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16256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31:39Z</dcterms:created>
  <dc:creator>Graham</dc:creator>
  <dc:description/>
  <dc:language>en-US</dc:language>
  <cp:lastModifiedBy>Graham</cp:lastModifiedBy>
  <dcterms:modified xsi:type="dcterms:W3CDTF">2012-09-30T18:31:42Z</dcterms:modified>
  <cp:revision>1</cp:revision>
  <dc:subject/>
  <dc:title>Slide 1</dc:title>
</cp:coreProperties>
</file>